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1" descr="C:\empresas\mbc\marca3.gif"/>
          <p:cNvPicPr/>
          <p:nvPr/>
        </p:nvPicPr>
        <p:blipFill>
          <a:blip r:embed="rId2"/>
          <a:stretch/>
        </p:blipFill>
        <p:spPr>
          <a:xfrm>
            <a:off x="5867280" y="3657600"/>
            <a:ext cx="2657520" cy="2400480"/>
          </a:xfrm>
          <a:prstGeom prst="rect">
            <a:avLst/>
          </a:prstGeom>
          <a:ln w="0">
            <a:noFill/>
          </a:ln>
        </p:spPr>
      </p:pic>
      <p:pic>
        <p:nvPicPr>
          <p:cNvPr id="1" name="Picture 7" descr="C:\treina\matfin\Hp12c.gif"/>
          <p:cNvPicPr/>
          <p:nvPr/>
        </p:nvPicPr>
        <p:blipFill>
          <a:blip r:embed="rId3"/>
          <a:stretch/>
        </p:blipFill>
        <p:spPr>
          <a:xfrm>
            <a:off x="2971800" y="762120"/>
            <a:ext cx="4724280" cy="2930400"/>
          </a:xfrm>
          <a:prstGeom prst="rect">
            <a:avLst/>
          </a:prstGeom>
          <a:ln w="0">
            <a:noFill/>
          </a:ln>
        </p:spPr>
      </p:pic>
      <p:sp>
        <p:nvSpPr>
          <p:cNvPr id="2" name="AutoShape 8">
            <a:hlinkClick r:id="" action="ppaction://hlinkshowjump?jump=nextslide"/>
          </p:cNvPr>
          <p:cNvSpPr/>
          <p:nvPr/>
        </p:nvSpPr>
        <p:spPr>
          <a:xfrm>
            <a:off x="7848720" y="640080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3806"/>
                </a:moveTo>
                <a:lnTo>
                  <a:pt x="17806" y="10813"/>
                </a:lnTo>
                <a:lnTo>
                  <a:pt x="3794" y="17819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AutoShape 9">
            <a:hlinkClick r:id="" action="ppaction://hlinkshowjump?jump=previousslide"/>
          </p:cNvPr>
          <p:cNvSpPr/>
          <p:nvPr/>
        </p:nvSpPr>
        <p:spPr>
          <a:xfrm>
            <a:off x="1066680" y="64008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" name="Object 16" descr=""/>
          <p:cNvPicPr/>
          <p:nvPr/>
        </p:nvPicPr>
        <p:blipFill>
          <a:blip r:embed="rId4"/>
          <a:stretch/>
        </p:blipFill>
        <p:spPr>
          <a:xfrm>
            <a:off x="2971800" y="0"/>
            <a:ext cx="450720" cy="663480"/>
          </a:xfrm>
          <a:prstGeom prst="rect">
            <a:avLst/>
          </a:prstGeom>
          <a:ln w="0">
            <a:noFill/>
          </a:ln>
        </p:spPr>
      </p:pic>
      <p:sp>
        <p:nvSpPr>
          <p:cNvPr id="5" name="Rectangle 17"/>
          <p:cNvSpPr/>
          <p:nvPr/>
        </p:nvSpPr>
        <p:spPr>
          <a:xfrm>
            <a:off x="304920" y="1295280"/>
            <a:ext cx="1218960" cy="480060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114ff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AutoShape 18">
            <a:hlinkClick r:id="" action="ppaction://hlinkshowjump?jump=firstslide"/>
          </p:cNvPr>
          <p:cNvSpPr/>
          <p:nvPr/>
        </p:nvSpPr>
        <p:spPr>
          <a:xfrm>
            <a:off x="4343400" y="640080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13487" y="3837"/>
                </a:moveTo>
                <a:lnTo>
                  <a:pt x="16064" y="6448"/>
                </a:lnTo>
                <a:lnTo>
                  <a:pt x="16064" y="4707"/>
                </a:lnTo>
                <a:lnTo>
                  <a:pt x="17839" y="4707"/>
                </a:lnTo>
                <a:lnTo>
                  <a:pt x="17839" y="8224"/>
                </a:lnTo>
                <a:lnTo>
                  <a:pt x="20450" y="10800"/>
                </a:lnTo>
                <a:lnTo>
                  <a:pt x="18797" y="10800"/>
                </a:lnTo>
                <a:lnTo>
                  <a:pt x="18797" y="17989"/>
                </a:lnTo>
                <a:lnTo>
                  <a:pt x="8178" y="17989"/>
                </a:lnTo>
                <a:lnTo>
                  <a:pt x="8178" y="10800"/>
                </a:lnTo>
                <a:lnTo>
                  <a:pt x="6524" y="10800"/>
                </a:lnTo>
                <a:close/>
              </a:path>
              <a:path fill="darkenLess" w="26975" h="21600">
                <a:moveTo>
                  <a:pt x="16064" y="6448"/>
                </a:moveTo>
                <a:lnTo>
                  <a:pt x="16064" y="4707"/>
                </a:lnTo>
                <a:lnTo>
                  <a:pt x="17839" y="4707"/>
                </a:lnTo>
                <a:lnTo>
                  <a:pt x="17839" y="8224"/>
                </a:lnTo>
                <a:close/>
              </a:path>
              <a:path fill="darkenLess" w="26975" h="21600">
                <a:moveTo>
                  <a:pt x="12565" y="14299"/>
                </a:moveTo>
                <a:lnTo>
                  <a:pt x="14410" y="14299"/>
                </a:lnTo>
                <a:lnTo>
                  <a:pt x="14410" y="17989"/>
                </a:lnTo>
                <a:lnTo>
                  <a:pt x="18797" y="17989"/>
                </a:lnTo>
                <a:lnTo>
                  <a:pt x="18797" y="10800"/>
                </a:lnTo>
                <a:lnTo>
                  <a:pt x="8178" y="10800"/>
                </a:lnTo>
                <a:lnTo>
                  <a:pt x="8178" y="17989"/>
                </a:lnTo>
                <a:lnTo>
                  <a:pt x="12565" y="17989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AutoShape 19">
            <a:hlinkClick r:id="" action="ppaction://hlinkshowjump?jump=lastslide"/>
          </p:cNvPr>
          <p:cNvSpPr/>
          <p:nvPr/>
        </p:nvSpPr>
        <p:spPr>
          <a:xfrm>
            <a:off x="5105520" y="640080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16986" y="10800"/>
                </a:moveTo>
                <a:lnTo>
                  <a:pt x="6481" y="17806"/>
                </a:lnTo>
                <a:lnTo>
                  <a:pt x="6481" y="3794"/>
                </a:lnTo>
                <a:close/>
              </a:path>
              <a:path fill="darken" w="26975" h="21600">
                <a:moveTo>
                  <a:pt x="18831" y="3794"/>
                </a:moveTo>
                <a:lnTo>
                  <a:pt x="18831" y="17806"/>
                </a:lnTo>
                <a:lnTo>
                  <a:pt x="20494" y="17806"/>
                </a:lnTo>
                <a:lnTo>
                  <a:pt x="20494" y="3794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" name="Picture 20" descr="C:\empresas\mbc\logoalfescuro.gif"/>
          <p:cNvPicPr/>
          <p:nvPr/>
        </p:nvPicPr>
        <p:blipFill>
          <a:blip r:embed="rId5"/>
          <a:stretch/>
        </p:blipFill>
        <p:spPr>
          <a:xfrm>
            <a:off x="380880" y="304920"/>
            <a:ext cx="109548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30"/>
          <p:cNvSpPr/>
          <p:nvPr/>
        </p:nvSpPr>
        <p:spPr>
          <a:xfrm>
            <a:off x="2590920" y="0"/>
            <a:ext cx="1295280" cy="6858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" name="Picture 31" descr="C:\empresas\mbc\rotinas.gif"/>
          <p:cNvPicPr/>
          <p:nvPr/>
        </p:nvPicPr>
        <p:blipFill>
          <a:blip r:embed="rId1"/>
          <a:stretch/>
        </p:blipFill>
        <p:spPr>
          <a:xfrm>
            <a:off x="2438280" y="4648320"/>
            <a:ext cx="5886720" cy="62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3728520" y="228600"/>
            <a:ext cx="4395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LIMPAR PREFIXO  (  f   g   STO   RCL  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916200" y="4267080"/>
            <a:ext cx="789876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As teclas  f  g  STO  e  RCL  não têm função se pressionadas isoladas. P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isso são chamadas de PREFIXO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Se alguma delas for pressionada indevidamente,    para anular a operaçã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basta pressionar   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f   PREFIX   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(função em dourado acima da tecla ENTER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Oval 14"/>
          <p:cNvSpPr/>
          <p:nvPr/>
        </p:nvSpPr>
        <p:spPr>
          <a:xfrm>
            <a:off x="5257800" y="2438280"/>
            <a:ext cx="457200" cy="45720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Oval 15"/>
          <p:cNvSpPr/>
          <p:nvPr/>
        </p:nvSpPr>
        <p:spPr>
          <a:xfrm>
            <a:off x="3581280" y="3124080"/>
            <a:ext cx="457200" cy="45720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Line 16"/>
          <p:cNvSpPr/>
          <p:nvPr/>
        </p:nvSpPr>
        <p:spPr>
          <a:xfrm flipV="1">
            <a:off x="4038480" y="2743200"/>
            <a:ext cx="1219320" cy="457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3742920" y="228600"/>
            <a:ext cx="4410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LIMPAR OS PROGRAMAS GRAVAD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533520" y="3886200"/>
            <a:ext cx="8167680" cy="22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As diversas funções de limpeza não desgravam os programas armazenados na calculadora. Para limpar os programas, deve-se entrar no modo de programação e, em seguida, executar a operação de limpeza. Para limpar os programas digitar: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f  P/R    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(para entrar no modo de programação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f  PRGM  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(para limpar os programa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f  P/R   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(para sair do modo de programação e retornar ao modo normal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Oval 15"/>
          <p:cNvSpPr/>
          <p:nvPr/>
        </p:nvSpPr>
        <p:spPr>
          <a:xfrm>
            <a:off x="3124080" y="2514600"/>
            <a:ext cx="533520" cy="53352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Line 18"/>
          <p:cNvSpPr/>
          <p:nvPr/>
        </p:nvSpPr>
        <p:spPr>
          <a:xfrm flipH="1" flipV="1">
            <a:off x="3580920" y="2971440"/>
            <a:ext cx="228600" cy="228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3820680" y="228600"/>
            <a:ext cx="4331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PRESERVAR A PARTE FRACIONÁR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609480" y="4495680"/>
            <a:ext cx="809172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Para preservar a parte fracionária de um determinado número que aparece no visor, tornando a parte inteira igual a zero, pressionar   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g   FRAC 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(em azul  junto da função  </a:t>
            </a:r>
            <a:r>
              <a:rPr b="0" lang="pt-BR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%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Para voltar o número original ao visor  pressionar   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g  LSTx  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(em azul na tecl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ENTER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Oval 14"/>
          <p:cNvSpPr/>
          <p:nvPr/>
        </p:nvSpPr>
        <p:spPr>
          <a:xfrm>
            <a:off x="3962520" y="3124080"/>
            <a:ext cx="533160" cy="53352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Oval 15"/>
          <p:cNvSpPr/>
          <p:nvPr/>
        </p:nvSpPr>
        <p:spPr>
          <a:xfrm>
            <a:off x="4419720" y="2133720"/>
            <a:ext cx="533160" cy="53316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Line 16"/>
          <p:cNvSpPr/>
          <p:nvPr/>
        </p:nvSpPr>
        <p:spPr>
          <a:xfrm flipV="1">
            <a:off x="4267080" y="2590560"/>
            <a:ext cx="304920" cy="5331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Line 17"/>
          <p:cNvSpPr/>
          <p:nvPr/>
        </p:nvSpPr>
        <p:spPr>
          <a:xfrm flipV="1">
            <a:off x="5257800" y="3504960"/>
            <a:ext cx="228600" cy="5331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3603960" y="228600"/>
            <a:ext cx="3710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PRESERVAR A PARTE INTEIRA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685800" y="4419720"/>
            <a:ext cx="807732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Para preservar a parte inteira de um número que se encontra no visor,   tornando a parte fracionária igual a zero, pressionar   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g  INTG  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(em azul junto com a função %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Para voltar ao visor o número original pressionar  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g  LSTx  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(em azul junto com    a tecla ENTER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Oval 15"/>
          <p:cNvSpPr/>
          <p:nvPr/>
        </p:nvSpPr>
        <p:spPr>
          <a:xfrm>
            <a:off x="3962520" y="3048120"/>
            <a:ext cx="533160" cy="53316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Oval 16"/>
          <p:cNvSpPr/>
          <p:nvPr/>
        </p:nvSpPr>
        <p:spPr>
          <a:xfrm>
            <a:off x="4800600" y="2133720"/>
            <a:ext cx="533520" cy="53316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Line 17"/>
          <p:cNvSpPr/>
          <p:nvPr/>
        </p:nvSpPr>
        <p:spPr>
          <a:xfrm flipV="1">
            <a:off x="4343400" y="2590920"/>
            <a:ext cx="533520" cy="457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Line 18"/>
          <p:cNvSpPr/>
          <p:nvPr/>
        </p:nvSpPr>
        <p:spPr>
          <a:xfrm flipV="1">
            <a:off x="5257800" y="3504960"/>
            <a:ext cx="228600" cy="5331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2"/>
          <p:cNvSpPr/>
          <p:nvPr/>
        </p:nvSpPr>
        <p:spPr>
          <a:xfrm>
            <a:off x="3642120" y="228600"/>
            <a:ext cx="4663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CALCULAR O INVERSO DE UM NÚMER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44560" y="4114800"/>
            <a:ext cx="774972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O inverso de um número é conseguido dividindo-se a unidade (1) por est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Na calculadora HP12C a função  1/x  executa esta operaçã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Para calcular-se o inverso de um número basta ter  o  número  no  visor  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pressionar   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1/x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.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Oval 14"/>
          <p:cNvSpPr/>
          <p:nvPr/>
        </p:nvSpPr>
        <p:spPr>
          <a:xfrm>
            <a:off x="3581280" y="2057400"/>
            <a:ext cx="533520" cy="53352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Line 15"/>
          <p:cNvSpPr/>
          <p:nvPr/>
        </p:nvSpPr>
        <p:spPr>
          <a:xfrm flipV="1">
            <a:off x="2133720" y="2361960"/>
            <a:ext cx="1447560" cy="685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3679560" y="228600"/>
            <a:ext cx="5007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CALCULAR O PERCENTUAL DE UM TOTAL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690120" y="4191120"/>
            <a:ext cx="767808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Calcula quanto porcento um determinado valor (parte) representa  de  u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outro valor (total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Para calcular-se o percentual que um número representa de outro,   bas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entrar-se com o número que servirá de base (total) e pressionar 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ENTER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em seguida digitar o outro número (parte) e pressionar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   %T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.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Oval 14"/>
          <p:cNvSpPr/>
          <p:nvPr/>
        </p:nvSpPr>
        <p:spPr>
          <a:xfrm>
            <a:off x="3962520" y="2133720"/>
            <a:ext cx="533160" cy="53316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Line 15"/>
          <p:cNvSpPr/>
          <p:nvPr/>
        </p:nvSpPr>
        <p:spPr>
          <a:xfrm flipH="1">
            <a:off x="1752120" y="2514600"/>
            <a:ext cx="2210040" cy="762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3655800" y="228600"/>
            <a:ext cx="4648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CALCULAR A VARIAÇÃO PERCENTUAL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609480" y="3733920"/>
            <a:ext cx="8167680" cy="25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Para se calcular a variação percentual entre dois números, digitar o   primeir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número (base ou valor anterior) e pressionar  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ENTER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Logo após, introduzir o outro número  (novo ou segundo número)  e   pressionar a função  </a:t>
            </a:r>
            <a:r>
              <a:rPr b="1" lang="pt-BR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%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Se o segundo número for menor, aparecerá o resultado com o sinal de menos, significando que para chegar-se do primeiro para o segundo número   deve-se deduzir o percentual que aparece no viso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2" name="Object 7"/>
          <p:cNvGraphicFramePr/>
          <p:nvPr/>
        </p:nvGraphicFramePr>
        <p:xfrm>
          <a:off x="2971800" y="762120"/>
          <a:ext cx="4724280" cy="294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762120"/>
                    <a:ext cx="4724280" cy="294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Oval 14"/>
          <p:cNvSpPr/>
          <p:nvPr/>
        </p:nvSpPr>
        <p:spPr>
          <a:xfrm>
            <a:off x="4419720" y="2057400"/>
            <a:ext cx="533160" cy="53352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Line 15"/>
          <p:cNvSpPr/>
          <p:nvPr/>
        </p:nvSpPr>
        <p:spPr>
          <a:xfrm flipV="1">
            <a:off x="2057400" y="2438280"/>
            <a:ext cx="2362320" cy="533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2"/>
          <p:cNvSpPr/>
          <p:nvPr/>
        </p:nvSpPr>
        <p:spPr>
          <a:xfrm>
            <a:off x="3604680" y="228600"/>
            <a:ext cx="3938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CALCULAR UMA PERCENTAGEM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Rectangle 3"/>
          <p:cNvSpPr/>
          <p:nvPr/>
        </p:nvSpPr>
        <p:spPr>
          <a:xfrm>
            <a:off x="769320" y="3962520"/>
            <a:ext cx="7976880" cy="21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Para calcular um valor que resulta aplicando uma determinada percentagem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sobre um número, digitar o número base e pressionar  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ENTER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e em seguid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a percentagem desejada e a função  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%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Se quisermos somar o resultado ao número base basta pressionar o sinal  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Se quisermos deduzir o resultado do número base, basta pressionar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Oval 14"/>
          <p:cNvSpPr/>
          <p:nvPr/>
        </p:nvSpPr>
        <p:spPr>
          <a:xfrm>
            <a:off x="4800600" y="2133720"/>
            <a:ext cx="533520" cy="53316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Line 15"/>
          <p:cNvSpPr/>
          <p:nvPr/>
        </p:nvSpPr>
        <p:spPr>
          <a:xfrm flipH="1">
            <a:off x="1981080" y="2438280"/>
            <a:ext cx="2819520" cy="838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3580560" y="228600"/>
            <a:ext cx="3967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MODO DE CÁLCULO COM DATA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685800" y="3886200"/>
            <a:ext cx="7924680" cy="20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Sendo a calculadora americana, ela vem originalmente preparada para calcular datas pelo sistema utilizado pelos americanos:  MÊS/DIA/AN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Se não estiver aparecendo a mensagem  D.MY  no visor, a máquina estará preparada para calcular datas pelo sistema americano. Para passar para o modo utilizado no Brasil, basta pressionar as teclas g D.MY.   Aparecerá o indicativo no visor da calculadora.  É recomendável deixá-la neste mod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Oval 14"/>
          <p:cNvSpPr/>
          <p:nvPr/>
        </p:nvSpPr>
        <p:spPr>
          <a:xfrm>
            <a:off x="5715000" y="2133720"/>
            <a:ext cx="533520" cy="53316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Line 15"/>
          <p:cNvSpPr/>
          <p:nvPr/>
        </p:nvSpPr>
        <p:spPr>
          <a:xfrm flipV="1">
            <a:off x="4343400" y="2514240"/>
            <a:ext cx="1371600" cy="762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Text Box 16"/>
          <p:cNvSpPr/>
          <p:nvPr/>
        </p:nvSpPr>
        <p:spPr>
          <a:xfrm>
            <a:off x="5108040" y="121932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Arial"/>
              </a:rPr>
              <a:t>D.MY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Line 17"/>
          <p:cNvSpPr/>
          <p:nvPr/>
        </p:nvSpPr>
        <p:spPr>
          <a:xfrm flipH="1" flipV="1">
            <a:off x="5410080" y="1447560"/>
            <a:ext cx="457200" cy="6858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2"/>
          <p:cNvSpPr/>
          <p:nvPr/>
        </p:nvSpPr>
        <p:spPr>
          <a:xfrm>
            <a:off x="3603960" y="228600"/>
            <a:ext cx="4853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CALCULAR TEMPO ENTRE DUAS DATAS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609480" y="3886200"/>
            <a:ext cx="8167680" cy="22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Considerando que a máquina esteja preparada para cálculos pelo sistema utilizado no Brasil,  entrar com a primeira data  DIA.MÊSANO (digitar o dia, em seguida um ponto e na seqüência o mês e o ano completo juntos)      e pressionar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  ENTER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.   Feito isso, entrar com a segunda data no mesmo formato e pressionar   </a:t>
            </a:r>
            <a:r>
              <a:rPr b="1" lang="pt-BR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  DYS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Aparecerá no visor o </a:t>
            </a:r>
            <a:r>
              <a:rPr b="0" lang="pt-BR" sz="1800" spc="-1" strike="noStrike" u="sng">
                <a:solidFill>
                  <a:srgbClr val="ffffff"/>
                </a:solidFill>
                <a:uFillTx/>
                <a:latin typeface="Arial"/>
              </a:rPr>
              <a:t>tempo exato 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(de acordo com o calendário).  Se pressionarmos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  X&lt;&gt;Y  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aparecerá o </a:t>
            </a:r>
            <a:r>
              <a:rPr b="0" lang="pt-BR" sz="1800" spc="-1" strike="noStrike" u="sng">
                <a:solidFill>
                  <a:srgbClr val="ffffff"/>
                </a:solidFill>
                <a:uFillTx/>
                <a:latin typeface="Arial"/>
              </a:rPr>
              <a:t>tempo aproximado 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(mês comercial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Oval 14"/>
          <p:cNvSpPr/>
          <p:nvPr/>
        </p:nvSpPr>
        <p:spPr>
          <a:xfrm>
            <a:off x="5257800" y="2133720"/>
            <a:ext cx="533520" cy="53316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Line 15"/>
          <p:cNvSpPr/>
          <p:nvPr/>
        </p:nvSpPr>
        <p:spPr>
          <a:xfrm flipV="1">
            <a:off x="4343400" y="2514240"/>
            <a:ext cx="990720" cy="762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5"/>
          <p:cNvSpPr/>
          <p:nvPr/>
        </p:nvSpPr>
        <p:spPr>
          <a:xfrm>
            <a:off x="3657960" y="228600"/>
            <a:ext cx="4206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LIGAR/DESLIGAR A CALCULADO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Oval 16"/>
          <p:cNvSpPr/>
          <p:nvPr/>
        </p:nvSpPr>
        <p:spPr>
          <a:xfrm>
            <a:off x="3124080" y="3124080"/>
            <a:ext cx="533520" cy="53352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838080" y="4648320"/>
            <a:ext cx="800100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Para ligar ou desligar a calculadora, basta pressionar a tecla  O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Ao ser deixada ligada, a calculadora se desligará automaticamente dentro de alguns minutos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Line 18"/>
          <p:cNvSpPr/>
          <p:nvPr/>
        </p:nvSpPr>
        <p:spPr>
          <a:xfrm flipV="1">
            <a:off x="2133720" y="3504960"/>
            <a:ext cx="1066680" cy="685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2"/>
          <p:cNvSpPr/>
          <p:nvPr/>
        </p:nvSpPr>
        <p:spPr>
          <a:xfrm>
            <a:off x="3616920" y="228600"/>
            <a:ext cx="4230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CÁLCULO DE UMA SEGUNDA DATA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914400" y="3962520"/>
            <a:ext cx="7773840" cy="22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Para somar um determinado número de dias a uma data, entrar com esta data e pressionar  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ENTER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, em seguida o número de dias  e  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g  DATE  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(em azul abaixo da tecla  CHS). Se quisermos diminuir, após digitar-se o número de dias pressionar  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CHS 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para trocar o sinal do número e em seguida  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g  DATE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O número que aparece isolado à direita é o </a:t>
            </a:r>
            <a:r>
              <a:rPr b="0" lang="pt-BR" sz="1800" spc="-1" strike="noStrike" u="sng">
                <a:solidFill>
                  <a:srgbClr val="ffffff"/>
                </a:solidFill>
                <a:uFillTx/>
                <a:latin typeface="Arial"/>
              </a:rPr>
              <a:t>dia da semana 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(1 = segunda ...). Para 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saber-se o dia da semana 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de uma determinada data, basta   digitar   esta data e somar-se ZERO utilizando esta funçã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Oval 14"/>
          <p:cNvSpPr/>
          <p:nvPr/>
        </p:nvSpPr>
        <p:spPr>
          <a:xfrm>
            <a:off x="5257800" y="1676520"/>
            <a:ext cx="533520" cy="53316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Line 15"/>
          <p:cNvSpPr/>
          <p:nvPr/>
        </p:nvSpPr>
        <p:spPr>
          <a:xfrm flipV="1">
            <a:off x="4267080" y="2133360"/>
            <a:ext cx="1067040" cy="1143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2"/>
          <p:cNvSpPr/>
          <p:nvPr/>
        </p:nvSpPr>
        <p:spPr>
          <a:xfrm>
            <a:off x="3678840" y="228600"/>
            <a:ext cx="4095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OPERAÇÕES DE  POTENCIAÇÃO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772560" y="4191120"/>
            <a:ext cx="778752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Para aplicar-se um expoente a um determinado número existe a função  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1" lang="pt-BR" sz="1800" spc="-1" strike="noStrike" baseline="30000">
                <a:solidFill>
                  <a:srgbClr val="ffffff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Digitar inicialmente a base e pressionar ENTER.  Feito isso, entrar com    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expoente e pressionar  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1" lang="pt-BR" sz="1800" spc="-1" strike="noStrike" baseline="30000">
                <a:solidFill>
                  <a:srgbClr val="ffffff"/>
                </a:solidFill>
                <a:latin typeface="Arial"/>
              </a:rPr>
              <a:t>x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Oval 14"/>
          <p:cNvSpPr/>
          <p:nvPr/>
        </p:nvSpPr>
        <p:spPr>
          <a:xfrm>
            <a:off x="3124080" y="2133720"/>
            <a:ext cx="533520" cy="53316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Line 15"/>
          <p:cNvSpPr/>
          <p:nvPr/>
        </p:nvSpPr>
        <p:spPr>
          <a:xfrm flipV="1">
            <a:off x="1752480" y="251460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"/>
          <p:cNvSpPr/>
          <p:nvPr/>
        </p:nvSpPr>
        <p:spPr>
          <a:xfrm>
            <a:off x="3657600" y="228600"/>
            <a:ext cx="3673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OPERAÇÕES DE  RADICIAÇÃO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762120" y="4114800"/>
            <a:ext cx="784836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Para realizar operações de radiciação, utiliza-se a mesma função utilizada para potenciação, bastando para isso, transformar a raiz em potência fracionária. Veja a equação ao lado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Oval 11"/>
          <p:cNvSpPr/>
          <p:nvPr/>
        </p:nvSpPr>
        <p:spPr>
          <a:xfrm>
            <a:off x="3124080" y="2133720"/>
            <a:ext cx="533520" cy="53316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Line 12"/>
          <p:cNvSpPr/>
          <p:nvPr/>
        </p:nvSpPr>
        <p:spPr>
          <a:xfrm flipV="1">
            <a:off x="1752480" y="251460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Line 13"/>
          <p:cNvSpPr/>
          <p:nvPr/>
        </p:nvSpPr>
        <p:spPr>
          <a:xfrm>
            <a:off x="6477120" y="5483160"/>
            <a:ext cx="75960" cy="304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Line 14"/>
          <p:cNvSpPr/>
          <p:nvPr/>
        </p:nvSpPr>
        <p:spPr>
          <a:xfrm flipV="1">
            <a:off x="6553080" y="5178240"/>
            <a:ext cx="152640" cy="6094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Line 15"/>
          <p:cNvSpPr/>
          <p:nvPr/>
        </p:nvSpPr>
        <p:spPr>
          <a:xfrm>
            <a:off x="6705720" y="5178600"/>
            <a:ext cx="5331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Text Box 16"/>
          <p:cNvSpPr/>
          <p:nvPr/>
        </p:nvSpPr>
        <p:spPr>
          <a:xfrm>
            <a:off x="6325920" y="50259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6711840" y="5334120"/>
            <a:ext cx="39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pt-BR" sz="1800" spc="-1" strike="noStrike" baseline="30000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Line 18"/>
          <p:cNvSpPr/>
          <p:nvPr/>
        </p:nvSpPr>
        <p:spPr>
          <a:xfrm>
            <a:off x="7391520" y="5562720"/>
            <a:ext cx="228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Line 19"/>
          <p:cNvSpPr/>
          <p:nvPr/>
        </p:nvSpPr>
        <p:spPr>
          <a:xfrm>
            <a:off x="7391520" y="5638680"/>
            <a:ext cx="228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Text Box 20"/>
          <p:cNvSpPr/>
          <p:nvPr/>
        </p:nvSpPr>
        <p:spPr>
          <a:xfrm>
            <a:off x="7850520" y="5334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Text Box 21"/>
          <p:cNvSpPr/>
          <p:nvPr/>
        </p:nvSpPr>
        <p:spPr>
          <a:xfrm>
            <a:off x="8077320" y="5029200"/>
            <a:ext cx="396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 u="sng">
                <a:solidFill>
                  <a:srgbClr val="ffffff"/>
                </a:solidFill>
                <a:uFillTx/>
                <a:latin typeface="Times New Roman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AutoShape 22"/>
          <p:cNvSpPr/>
          <p:nvPr/>
        </p:nvSpPr>
        <p:spPr>
          <a:xfrm rot="577800">
            <a:off x="5105160" y="4952520"/>
            <a:ext cx="761760" cy="228600"/>
          </a:xfrm>
          <a:prstGeom prst="rightArrow">
            <a:avLst>
              <a:gd name="adj1" fmla="val 50000"/>
              <a:gd name="adj2" fmla="val 83307"/>
            </a:avLst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Text Box 23"/>
          <p:cNvSpPr/>
          <p:nvPr/>
        </p:nvSpPr>
        <p:spPr>
          <a:xfrm>
            <a:off x="1675080" y="579132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4   ENTER   5  ENTER    3  :    Y</a:t>
            </a:r>
            <a:r>
              <a:rPr b="0" lang="pt-BR" sz="1800" spc="-1" strike="noStrike" baseline="30000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2"/>
          <p:cNvSpPr/>
          <p:nvPr/>
        </p:nvSpPr>
        <p:spPr>
          <a:xfrm>
            <a:off x="3615480" y="228600"/>
            <a:ext cx="4157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TROCAR O SINAL DE UM NÚMERO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762120" y="4114800"/>
            <a:ext cx="79246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Em diversas operações necessitaremos trocar o sinal de um número que aparece no visor.  Para isso existe a função  CHS  (change signal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Para trocar o sinal de um número que esteja no visor, basta pressionar a função  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CHS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 que o sinal será trocad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Oval 14"/>
          <p:cNvSpPr/>
          <p:nvPr/>
        </p:nvSpPr>
        <p:spPr>
          <a:xfrm>
            <a:off x="5257800" y="1600200"/>
            <a:ext cx="533520" cy="53352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Line 15"/>
          <p:cNvSpPr/>
          <p:nvPr/>
        </p:nvSpPr>
        <p:spPr>
          <a:xfrm flipV="1">
            <a:off x="1676520" y="1981080"/>
            <a:ext cx="3581280" cy="990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/>
          <p:cNvSpPr/>
          <p:nvPr/>
        </p:nvSpPr>
        <p:spPr>
          <a:xfrm>
            <a:off x="3615480" y="228600"/>
            <a:ext cx="50626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ARREDONDAR UM NÚMERO (MEMÓRIA = VISOR)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Rectangle 3"/>
          <p:cNvSpPr/>
          <p:nvPr/>
        </p:nvSpPr>
        <p:spPr>
          <a:xfrm>
            <a:off x="609480" y="3886200"/>
            <a:ext cx="8153640" cy="25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Em algumas situações pode-se querer trabalhar com um certo número de casas após a vírgula, desprezando as demais que estão na memória da calculador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Para arredondar um determinado número fracionário que apresenta diversas casas após a vírgula,  fazer inicialmente aparecer no visor o número de casas desejado pressionando  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 este número.  Em seguida pressionar  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f  RND 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(em dourado acima da função  PMT). Para voltar o número original pressionar  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g  LSTx  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Oval 14"/>
          <p:cNvSpPr/>
          <p:nvPr/>
        </p:nvSpPr>
        <p:spPr>
          <a:xfrm>
            <a:off x="4419720" y="1447920"/>
            <a:ext cx="533160" cy="53316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Line 15"/>
          <p:cNvSpPr/>
          <p:nvPr/>
        </p:nvSpPr>
        <p:spPr>
          <a:xfrm flipH="1">
            <a:off x="1600200" y="1752480"/>
            <a:ext cx="2819520" cy="1143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2"/>
          <p:cNvSpPr/>
          <p:nvPr/>
        </p:nvSpPr>
        <p:spPr>
          <a:xfrm>
            <a:off x="3704400" y="228600"/>
            <a:ext cx="42976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INTERCAMBIAR CONTEÚDOS  X &lt;&gt; 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Rectangle 3"/>
          <p:cNvSpPr/>
          <p:nvPr/>
        </p:nvSpPr>
        <p:spPr>
          <a:xfrm>
            <a:off x="838080" y="3886200"/>
            <a:ext cx="7848720" cy="25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Os cálculos na HP 12c são feitos pelo cotejo dos conteúdos dos registradores  Y  e   X  (o registrador X é o que está aparecendo sempre no visor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Se digitarmos, por exemplo o número 8 e pressionarmos a tecla ENTER  este número estará tanto no registrador  X  quanto  no  Y.  Agora, se introduzirmos o número 4, este estará no registrador  X  e o número 8 no registrador  Y.  Para intercambiar a localização destes números pressionar  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X&lt;&gt;Y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Oval 14"/>
          <p:cNvSpPr/>
          <p:nvPr/>
        </p:nvSpPr>
        <p:spPr>
          <a:xfrm>
            <a:off x="4419720" y="2590920"/>
            <a:ext cx="533160" cy="53316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Line 15"/>
          <p:cNvSpPr/>
          <p:nvPr/>
        </p:nvSpPr>
        <p:spPr>
          <a:xfrm flipH="1">
            <a:off x="1371240" y="2895480"/>
            <a:ext cx="3048120" cy="609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2"/>
          <p:cNvSpPr/>
          <p:nvPr/>
        </p:nvSpPr>
        <p:spPr>
          <a:xfrm>
            <a:off x="3607920" y="228600"/>
            <a:ext cx="52714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ARMAZENAR  UM NÚMERO EM UM REGISTRADOR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533520" y="4114800"/>
            <a:ext cx="828180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A máquina possui 20 registradores de armazenamento de dados, além dos financeiros.  Os registradores são identificados por um número de 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a 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 e  de  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.0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 a  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.9  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(ponto zero a ponto nove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Para armazenar um número, por exemplo, no registrador  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.5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,   digitar  o  número e em seguida  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STO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.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Oval 14"/>
          <p:cNvSpPr/>
          <p:nvPr/>
        </p:nvSpPr>
        <p:spPr>
          <a:xfrm>
            <a:off x="4419720" y="3048120"/>
            <a:ext cx="533160" cy="53316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Line 15"/>
          <p:cNvSpPr/>
          <p:nvPr/>
        </p:nvSpPr>
        <p:spPr>
          <a:xfrm>
            <a:off x="1905120" y="2209680"/>
            <a:ext cx="2590560" cy="9144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/>
          <p:cNvSpPr/>
          <p:nvPr/>
        </p:nvSpPr>
        <p:spPr>
          <a:xfrm>
            <a:off x="3678480" y="228600"/>
            <a:ext cx="4933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LER O CONTEÚDO DE UM REGISTRADOR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Rectangle 3"/>
          <p:cNvSpPr/>
          <p:nvPr/>
        </p:nvSpPr>
        <p:spPr>
          <a:xfrm>
            <a:off x="838080" y="4038480"/>
            <a:ext cx="792648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Para ler o conteúdo de um determinado registrador pressionar  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RLC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e o número do registrado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Tendo armazenado um número em um registrador, a máquina pode ser  até desligada que ele permanecerá armazenado. Para limpar o número armazenado deve-se utilizar a função  f  REG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Oval 14"/>
          <p:cNvSpPr/>
          <p:nvPr/>
        </p:nvSpPr>
        <p:spPr>
          <a:xfrm>
            <a:off x="4800600" y="3048120"/>
            <a:ext cx="533520" cy="53316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Line 15"/>
          <p:cNvSpPr/>
          <p:nvPr/>
        </p:nvSpPr>
        <p:spPr>
          <a:xfrm>
            <a:off x="1981080" y="2362320"/>
            <a:ext cx="2819520" cy="838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3"/>
          <p:cNvSpPr/>
          <p:nvPr/>
        </p:nvSpPr>
        <p:spPr>
          <a:xfrm>
            <a:off x="3553920" y="228600"/>
            <a:ext cx="4140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CALCULAR A MÉDIA PONDERADA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609480" y="3962520"/>
            <a:ext cx="8015400" cy="20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Limpar os registradores estatísticos pressionando   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f  </a:t>
            </a:r>
            <a:r>
              <a:rPr b="1" lang="pt-BR" sz="1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ou  todos pressionando  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f  REG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Ir digitando os pares de dados (o valor a ponderar primeiro e o peso logo  a seguir):  valor a ponderar  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ENTER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 peso  </a:t>
            </a:r>
            <a:r>
              <a:rPr b="1" lang="pt-BR" sz="1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+  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(vai aparecendo no visor o número de ordem dos pares de dados 1, 2, 3 ...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Para calcular a média aritmética ponderada pressionar  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g  x</a:t>
            </a:r>
            <a:r>
              <a:rPr b="1" lang="pt-BR" sz="1800" spc="-1" strike="noStrike" baseline="-25000">
                <a:solidFill>
                  <a:srgbClr val="ffffff"/>
                </a:solidFill>
                <a:latin typeface="Arial"/>
              </a:rPr>
              <a:t>w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(função em azul junto com o número 6 do teclado numérico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Oval 15"/>
          <p:cNvSpPr/>
          <p:nvPr/>
        </p:nvSpPr>
        <p:spPr>
          <a:xfrm>
            <a:off x="6553080" y="3048120"/>
            <a:ext cx="533520" cy="53316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Line 17"/>
          <p:cNvSpPr/>
          <p:nvPr/>
        </p:nvSpPr>
        <p:spPr>
          <a:xfrm>
            <a:off x="5791320" y="3048120"/>
            <a:ext cx="761760" cy="228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Line 18"/>
          <p:cNvSpPr/>
          <p:nvPr/>
        </p:nvSpPr>
        <p:spPr>
          <a:xfrm flipV="1">
            <a:off x="4267080" y="2514240"/>
            <a:ext cx="2362320" cy="7621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Oval 16"/>
          <p:cNvSpPr/>
          <p:nvPr/>
        </p:nvSpPr>
        <p:spPr>
          <a:xfrm>
            <a:off x="5257800" y="2590920"/>
            <a:ext cx="533520" cy="99036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Line 19"/>
          <p:cNvSpPr/>
          <p:nvPr/>
        </p:nvSpPr>
        <p:spPr>
          <a:xfrm flipV="1">
            <a:off x="3809880" y="274320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2"/>
          <p:cNvSpPr/>
          <p:nvPr/>
        </p:nvSpPr>
        <p:spPr>
          <a:xfrm>
            <a:off x="3563640" y="228600"/>
            <a:ext cx="5506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TECLADO FINANCEIRO COM  n  FRACIONÁRIO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Rectangle 4"/>
          <p:cNvSpPr/>
          <p:nvPr/>
        </p:nvSpPr>
        <p:spPr>
          <a:xfrm>
            <a:off x="380880" y="3886200"/>
            <a:ext cx="8371080" cy="231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Quando o número de períodos  n  for fracionário (por exemplo  3,4 meses), o critério de cálculo de juros no período fracionário (0,4) pode ser escolhido entre   SIMPLES e COMPOST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Se estiver aparecendo no visor a indicação  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 o cálculo no período fracionário será feito pelo critério de JUROS COMPOSTO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Se não estiver aparecendo a indicação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o cálculo será feito utilizando-se o critério de JUROS SIMPLES  no período fracionári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Rectangle 6"/>
          <p:cNvSpPr/>
          <p:nvPr/>
        </p:nvSpPr>
        <p:spPr>
          <a:xfrm>
            <a:off x="457200" y="2438280"/>
            <a:ext cx="2286000" cy="11862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Para acionar ou desligar o modo  C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pressionar as teclas  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STO 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e  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EEX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Oval 16"/>
          <p:cNvSpPr/>
          <p:nvPr/>
        </p:nvSpPr>
        <p:spPr>
          <a:xfrm>
            <a:off x="4419720" y="3124080"/>
            <a:ext cx="533160" cy="53352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Oval 17"/>
          <p:cNvSpPr/>
          <p:nvPr/>
        </p:nvSpPr>
        <p:spPr>
          <a:xfrm>
            <a:off x="5257800" y="2133720"/>
            <a:ext cx="533520" cy="53316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Line 18"/>
          <p:cNvSpPr/>
          <p:nvPr/>
        </p:nvSpPr>
        <p:spPr>
          <a:xfrm flipV="1">
            <a:off x="4876920" y="2514240"/>
            <a:ext cx="457200" cy="685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Text Box 19"/>
          <p:cNvSpPr/>
          <p:nvPr/>
        </p:nvSpPr>
        <p:spPr>
          <a:xfrm>
            <a:off x="5411880" y="1143000"/>
            <a:ext cx="37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imes New Roman"/>
              </a:rPr>
              <a:t>C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Line 20"/>
          <p:cNvSpPr/>
          <p:nvPr/>
        </p:nvSpPr>
        <p:spPr>
          <a:xfrm flipV="1">
            <a:off x="2057400" y="1371600"/>
            <a:ext cx="3352680" cy="533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9"/>
          <p:cNvSpPr/>
          <p:nvPr/>
        </p:nvSpPr>
        <p:spPr>
          <a:xfrm>
            <a:off x="3656520" y="228600"/>
            <a:ext cx="48571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VÍRGULA OU PONTO COMO SEPARADOR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Oval 10"/>
          <p:cNvSpPr/>
          <p:nvPr/>
        </p:nvSpPr>
        <p:spPr>
          <a:xfrm>
            <a:off x="3124080" y="3124080"/>
            <a:ext cx="533520" cy="53352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Rectangle 11"/>
          <p:cNvSpPr/>
          <p:nvPr/>
        </p:nvSpPr>
        <p:spPr>
          <a:xfrm>
            <a:off x="838080" y="4648320"/>
            <a:ext cx="800100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Para alterar o separador decimal da calculadora, de ponto para vírgula ou vice-versa, adote os seguintes passos, com a calculadora desligada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Fique pressionando com um dedo a tecla do PONTO e dê um toque na tecla ON (pressione e solte).  Pronto!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Oval 13"/>
          <p:cNvSpPr/>
          <p:nvPr/>
        </p:nvSpPr>
        <p:spPr>
          <a:xfrm>
            <a:off x="6095880" y="3048120"/>
            <a:ext cx="533520" cy="53316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Line 14"/>
          <p:cNvSpPr/>
          <p:nvPr/>
        </p:nvSpPr>
        <p:spPr>
          <a:xfrm flipV="1">
            <a:off x="5029200" y="3505320"/>
            <a:ext cx="1143000" cy="9144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Line 15"/>
          <p:cNvSpPr/>
          <p:nvPr/>
        </p:nvSpPr>
        <p:spPr>
          <a:xfrm flipH="1" flipV="1">
            <a:off x="3504960" y="3580920"/>
            <a:ext cx="609480" cy="6858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2"/>
          <p:cNvSpPr/>
          <p:nvPr/>
        </p:nvSpPr>
        <p:spPr>
          <a:xfrm>
            <a:off x="3592440" y="228600"/>
            <a:ext cx="51480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CÁLCULO DA PRESTAÇÃO PELO SISTEMA PRIC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Rectangle 3"/>
          <p:cNvSpPr/>
          <p:nvPr/>
        </p:nvSpPr>
        <p:spPr>
          <a:xfrm>
            <a:off x="766800" y="3886200"/>
            <a:ext cx="8121600" cy="22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Digitar o número de parcelas e pressionar   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Digitar o valor à vista ou valor presente e pressionar  CHS   PV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Digitar a taxa de juros ao período e pressionar   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Pressionar  PMT que aparecerá o valor da prestaçã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Atenção:  se não estiver aparecendo o indicativo BEGIN no visor o critério q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estará sendo utilizado é o SEM ENTRADA.  Para considerar o critério     CO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ENTRADA, antes de pedir a prestação pressionar  g  BEG 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Rectangle 18"/>
          <p:cNvSpPr/>
          <p:nvPr/>
        </p:nvSpPr>
        <p:spPr>
          <a:xfrm>
            <a:off x="3200400" y="1752480"/>
            <a:ext cx="2514600" cy="3812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Oval 19"/>
          <p:cNvSpPr/>
          <p:nvPr/>
        </p:nvSpPr>
        <p:spPr>
          <a:xfrm>
            <a:off x="4419720" y="1676520"/>
            <a:ext cx="533160" cy="53316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Line 20"/>
          <p:cNvSpPr/>
          <p:nvPr/>
        </p:nvSpPr>
        <p:spPr>
          <a:xfrm>
            <a:off x="6477120" y="2133720"/>
            <a:ext cx="1676160" cy="7617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Line 21"/>
          <p:cNvSpPr/>
          <p:nvPr/>
        </p:nvSpPr>
        <p:spPr>
          <a:xfrm>
            <a:off x="6019920" y="2133720"/>
            <a:ext cx="1904760" cy="1600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Text Box 22"/>
          <p:cNvSpPr/>
          <p:nvPr/>
        </p:nvSpPr>
        <p:spPr>
          <a:xfrm>
            <a:off x="8138880" y="2781360"/>
            <a:ext cx="5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S/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Text Box 23"/>
          <p:cNvSpPr/>
          <p:nvPr/>
        </p:nvSpPr>
        <p:spPr>
          <a:xfrm>
            <a:off x="7909920" y="3543480"/>
            <a:ext cx="5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C/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2"/>
          <p:cNvSpPr/>
          <p:nvPr/>
        </p:nvSpPr>
        <p:spPr>
          <a:xfrm>
            <a:off x="3656880" y="228600"/>
            <a:ext cx="3700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CALCULAR O VALOR FUTURO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Rectangle 3"/>
          <p:cNvSpPr/>
          <p:nvPr/>
        </p:nvSpPr>
        <p:spPr>
          <a:xfrm>
            <a:off x="538560" y="3733920"/>
            <a:ext cx="8286120" cy="25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O valor futuro pode ser calculado a partir de um determinado valor presente  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PV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ou de um conjunto de prestações  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PM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Digitar o número de parcelas em  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Digitar o valor das parcelas em  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PMT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 ou o valor presente em  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PV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Digitar a taxa de juros ao período em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   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Pressionar  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FV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que aparecerá o valor futuro corresponden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Atenção:  cuidado para os modos  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BEGIN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 ou  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END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 conforme as prestaçõ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ocorram nos inícios ou aos finais dos períodos!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Rectangle 16"/>
          <p:cNvSpPr/>
          <p:nvPr/>
        </p:nvSpPr>
        <p:spPr>
          <a:xfrm>
            <a:off x="3200400" y="1752480"/>
            <a:ext cx="2514600" cy="3812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Oval 17"/>
          <p:cNvSpPr/>
          <p:nvPr/>
        </p:nvSpPr>
        <p:spPr>
          <a:xfrm>
            <a:off x="4800600" y="1676520"/>
            <a:ext cx="533520" cy="53316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2"/>
          <p:cNvSpPr/>
          <p:nvPr/>
        </p:nvSpPr>
        <p:spPr>
          <a:xfrm>
            <a:off x="3641400" y="228600"/>
            <a:ext cx="3979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CALCULAR O VALOR PRESENTE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609480" y="4038480"/>
            <a:ext cx="814248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Pode ser calculado a partir de um determinado valor futuro 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FV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ou de  um  conjunto de prestações futuras  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PM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Digitar o valor futuro  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FV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  ou  o valor das prestações  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PM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Digitar a  taxa de juros ao período em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  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Digitar o número de períodos em  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Pressionar  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PV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 para obter o  resultad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Rectangle 10"/>
          <p:cNvSpPr/>
          <p:nvPr/>
        </p:nvSpPr>
        <p:spPr>
          <a:xfrm>
            <a:off x="3200400" y="1752480"/>
            <a:ext cx="2514600" cy="3812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3962520" y="1676520"/>
            <a:ext cx="533160" cy="53316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2"/>
          <p:cNvSpPr/>
          <p:nvPr/>
        </p:nvSpPr>
        <p:spPr>
          <a:xfrm>
            <a:off x="3669480" y="228600"/>
            <a:ext cx="51480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CALCULAR A TAXA DE JUROS TENDO PV  E  PMT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993600" y="4191120"/>
            <a:ext cx="746460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Digitar o valor à vista ou valor presente em a seguir as teclas  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CHS   PV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Digitar  o número de prestações e pressionar   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Digitar o valor das prestações e pressionar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  PM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Pressionar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   i   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para obter a taxa de juros ao períod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Oval 15"/>
          <p:cNvSpPr/>
          <p:nvPr/>
        </p:nvSpPr>
        <p:spPr>
          <a:xfrm>
            <a:off x="3581280" y="1676520"/>
            <a:ext cx="533520" cy="53316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200400" y="1752480"/>
            <a:ext cx="2514600" cy="3812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/>
          <p:cNvSpPr/>
          <p:nvPr/>
        </p:nvSpPr>
        <p:spPr>
          <a:xfrm>
            <a:off x="3630960" y="228600"/>
            <a:ext cx="49791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CALCULAR A TAXA DE JUROS TENDO PV  E  FV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Rectangle 4"/>
          <p:cNvSpPr/>
          <p:nvPr/>
        </p:nvSpPr>
        <p:spPr>
          <a:xfrm>
            <a:off x="1069560" y="4267080"/>
            <a:ext cx="750276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Digitar o valor presente e pressionar   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CHS  PV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Digitar o valor futuro e pressionar   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FV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Digitar o número de períodos e pressionar   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Pressionar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  i  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para saber a taxa de juros ao período (de acordo com   n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Oval 15"/>
          <p:cNvSpPr/>
          <p:nvPr/>
        </p:nvSpPr>
        <p:spPr>
          <a:xfrm>
            <a:off x="3505320" y="1676520"/>
            <a:ext cx="533160" cy="53316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Rectangle 16"/>
          <p:cNvSpPr/>
          <p:nvPr/>
        </p:nvSpPr>
        <p:spPr>
          <a:xfrm>
            <a:off x="3200400" y="1752480"/>
            <a:ext cx="2514600" cy="3812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2"/>
          <p:cNvSpPr/>
          <p:nvPr/>
        </p:nvSpPr>
        <p:spPr>
          <a:xfrm>
            <a:off x="3567960" y="228600"/>
            <a:ext cx="50338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CALCULAR TAXAS PROPORCIONAIS DE JUROS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739800" y="3809880"/>
            <a:ext cx="8397360" cy="22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O cálculo de taxas proporcionais de juros se refere a JUROS SIMPL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Tendo-se uma taxa referente a um determinado período e desejando-se calcular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a taxa proporcional para um outro período, basta fazer uma regra de trê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Na calculadora HP 12C proceder da seguinte forma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Digitar a taxa de juros conhecida e pressionar  </a:t>
            </a:r>
            <a:r>
              <a:rPr b="1" lang="pt-BR" sz="1800" spc="-1" strike="noStrike">
                <a:solidFill>
                  <a:srgbClr val="fc0128"/>
                </a:solidFill>
                <a:latin typeface="Arial"/>
              </a:rPr>
              <a:t>ENT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Digitar  o tempo conhecido e pressionar  </a:t>
            </a:r>
            <a:r>
              <a:rPr b="1" lang="pt-BR" sz="1800" spc="-1" strike="noStrike">
                <a:solidFill>
                  <a:srgbClr val="fc0128"/>
                </a:solidFill>
                <a:latin typeface="Arial"/>
              </a:rPr>
              <a:t>: 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(divid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Digitar o tempo desejado e pressionar</a:t>
            </a:r>
            <a:r>
              <a:rPr b="1" lang="pt-BR" sz="1800" spc="-1" strike="noStrike">
                <a:solidFill>
                  <a:srgbClr val="fc0128"/>
                </a:solidFill>
                <a:latin typeface="Arial"/>
              </a:rPr>
              <a:t>  x  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(veze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A taxa proporcional aparecerá no viso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Oval 16"/>
          <p:cNvSpPr/>
          <p:nvPr/>
        </p:nvSpPr>
        <p:spPr>
          <a:xfrm>
            <a:off x="5257800" y="2590920"/>
            <a:ext cx="609480" cy="9903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Oval 17"/>
          <p:cNvSpPr/>
          <p:nvPr/>
        </p:nvSpPr>
        <p:spPr>
          <a:xfrm>
            <a:off x="7010280" y="1676520"/>
            <a:ext cx="457200" cy="9903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Line 18"/>
          <p:cNvSpPr/>
          <p:nvPr/>
        </p:nvSpPr>
        <p:spPr>
          <a:xfrm flipV="1">
            <a:off x="5867280" y="2133360"/>
            <a:ext cx="1143000" cy="685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2"/>
          <p:cNvSpPr/>
          <p:nvPr/>
        </p:nvSpPr>
        <p:spPr>
          <a:xfrm>
            <a:off x="3578400" y="228600"/>
            <a:ext cx="5489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CALCULAR TAXAS EQUIVALENTES DE JUROS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Rectangle 4"/>
          <p:cNvSpPr/>
          <p:nvPr/>
        </p:nvSpPr>
        <p:spPr>
          <a:xfrm>
            <a:off x="843120" y="3886200"/>
            <a:ext cx="7511760" cy="25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Para calcular na HP 12C taxas equivalentes (tanto capitalizando quan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descapitalizando), proceder da seguinte forma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Digitar  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 e pressionar  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ENT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Digitar a taxa conhecida e pressionar  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%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  +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Digitar o tempo para o qual se quer calcular a taxa  e pressionar ENT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Digitar o tempo a que se refere a taxa e pressionar   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(divid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Pressionar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   Y</a:t>
            </a:r>
            <a:r>
              <a:rPr b="1" lang="pt-BR" sz="1800" spc="-1" strike="noStrike" baseline="30000">
                <a:solidFill>
                  <a:srgbClr val="ffffff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Digitar  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 e pressionar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(meno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Digitar  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100   x  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(vezes)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Oval 14"/>
          <p:cNvSpPr/>
          <p:nvPr/>
        </p:nvSpPr>
        <p:spPr>
          <a:xfrm>
            <a:off x="3124080" y="2133720"/>
            <a:ext cx="533520" cy="53316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2"/>
          <p:cNvSpPr/>
          <p:nvPr/>
        </p:nvSpPr>
        <p:spPr>
          <a:xfrm>
            <a:off x="3581640" y="228600"/>
            <a:ext cx="52257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FLUXO DE CAIXA COM INTERVALOS REGULARES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Rectangle 4"/>
          <p:cNvSpPr/>
          <p:nvPr/>
        </p:nvSpPr>
        <p:spPr>
          <a:xfrm>
            <a:off x="537480" y="4191120"/>
            <a:ext cx="827532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Digitar o valor do fluxo de caixa no momento ZERO e pressionar  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CHS  g  CF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Ir digitando os demais fluxos com  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VALOR  g  CF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Após ter digitado todos os fluxos, pressionar   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f  IRR 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para calcular a taxa inter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de retorno  (internal return rate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Oval 15"/>
          <p:cNvSpPr/>
          <p:nvPr/>
        </p:nvSpPr>
        <p:spPr>
          <a:xfrm>
            <a:off x="4800600" y="1371600"/>
            <a:ext cx="533520" cy="53352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Line 16"/>
          <p:cNvSpPr/>
          <p:nvPr/>
        </p:nvSpPr>
        <p:spPr>
          <a:xfrm flipV="1">
            <a:off x="2514600" y="2057400"/>
            <a:ext cx="1600200" cy="1295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Line 17"/>
          <p:cNvSpPr/>
          <p:nvPr/>
        </p:nvSpPr>
        <p:spPr>
          <a:xfrm flipV="1">
            <a:off x="2743200" y="2057040"/>
            <a:ext cx="1828800" cy="1981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/>
          <p:cNvSpPr/>
          <p:nvPr/>
        </p:nvSpPr>
        <p:spPr>
          <a:xfrm>
            <a:off x="1826640" y="228600"/>
            <a:ext cx="6867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FLUXOS DE CAIXA COM INTERVALOS IRREGULAR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Line 4"/>
          <p:cNvSpPr/>
          <p:nvPr/>
        </p:nvSpPr>
        <p:spPr>
          <a:xfrm>
            <a:off x="768240" y="2590920"/>
            <a:ext cx="7607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Line 5"/>
          <p:cNvSpPr/>
          <p:nvPr/>
        </p:nvSpPr>
        <p:spPr>
          <a:xfrm>
            <a:off x="762120" y="2444760"/>
            <a:ext cx="0" cy="216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Line 6"/>
          <p:cNvSpPr/>
          <p:nvPr/>
        </p:nvSpPr>
        <p:spPr>
          <a:xfrm>
            <a:off x="2666880" y="2444760"/>
            <a:ext cx="0" cy="216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Line 7"/>
          <p:cNvSpPr/>
          <p:nvPr/>
        </p:nvSpPr>
        <p:spPr>
          <a:xfrm>
            <a:off x="4648320" y="2444760"/>
            <a:ext cx="0" cy="216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Line 8"/>
          <p:cNvSpPr/>
          <p:nvPr/>
        </p:nvSpPr>
        <p:spPr>
          <a:xfrm>
            <a:off x="8458200" y="2444760"/>
            <a:ext cx="0" cy="216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Rectangle 9"/>
          <p:cNvSpPr/>
          <p:nvPr/>
        </p:nvSpPr>
        <p:spPr>
          <a:xfrm>
            <a:off x="595080" y="2035080"/>
            <a:ext cx="295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Rectangle 10"/>
          <p:cNvSpPr/>
          <p:nvPr/>
        </p:nvSpPr>
        <p:spPr>
          <a:xfrm>
            <a:off x="2423880" y="2035080"/>
            <a:ext cx="410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2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Rectangle 11"/>
          <p:cNvSpPr/>
          <p:nvPr/>
        </p:nvSpPr>
        <p:spPr>
          <a:xfrm>
            <a:off x="4405320" y="2035080"/>
            <a:ext cx="410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4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Rectangle 12"/>
          <p:cNvSpPr/>
          <p:nvPr/>
        </p:nvSpPr>
        <p:spPr>
          <a:xfrm>
            <a:off x="8215200" y="2035080"/>
            <a:ext cx="410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7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Line 13"/>
          <p:cNvSpPr/>
          <p:nvPr/>
        </p:nvSpPr>
        <p:spPr>
          <a:xfrm>
            <a:off x="1752480" y="2444760"/>
            <a:ext cx="0" cy="216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Line 14"/>
          <p:cNvSpPr/>
          <p:nvPr/>
        </p:nvSpPr>
        <p:spPr>
          <a:xfrm>
            <a:off x="1600200" y="2444760"/>
            <a:ext cx="0" cy="216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Line 15"/>
          <p:cNvSpPr/>
          <p:nvPr/>
        </p:nvSpPr>
        <p:spPr>
          <a:xfrm>
            <a:off x="1447920" y="2444760"/>
            <a:ext cx="0" cy="216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Line 16"/>
          <p:cNvSpPr/>
          <p:nvPr/>
        </p:nvSpPr>
        <p:spPr>
          <a:xfrm>
            <a:off x="3505320" y="2444760"/>
            <a:ext cx="0" cy="216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Line 17"/>
          <p:cNvSpPr/>
          <p:nvPr/>
        </p:nvSpPr>
        <p:spPr>
          <a:xfrm>
            <a:off x="3352680" y="2444760"/>
            <a:ext cx="0" cy="216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Line 18"/>
          <p:cNvSpPr/>
          <p:nvPr/>
        </p:nvSpPr>
        <p:spPr>
          <a:xfrm>
            <a:off x="3657600" y="2444760"/>
            <a:ext cx="0" cy="216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Line 19"/>
          <p:cNvSpPr/>
          <p:nvPr/>
        </p:nvSpPr>
        <p:spPr>
          <a:xfrm>
            <a:off x="6019920" y="2444760"/>
            <a:ext cx="0" cy="216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Line 20"/>
          <p:cNvSpPr/>
          <p:nvPr/>
        </p:nvSpPr>
        <p:spPr>
          <a:xfrm>
            <a:off x="6172200" y="2444760"/>
            <a:ext cx="0" cy="216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Line 21"/>
          <p:cNvSpPr/>
          <p:nvPr/>
        </p:nvSpPr>
        <p:spPr>
          <a:xfrm>
            <a:off x="6324480" y="2444760"/>
            <a:ext cx="0" cy="216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Rectangle 22"/>
          <p:cNvSpPr/>
          <p:nvPr/>
        </p:nvSpPr>
        <p:spPr>
          <a:xfrm>
            <a:off x="430560" y="1197000"/>
            <a:ext cx="84034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A explicação de como introduzir fluxos com valores e períodos irregulares será dada pel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exemplo abaixo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Rectangle 23"/>
          <p:cNvSpPr/>
          <p:nvPr/>
        </p:nvSpPr>
        <p:spPr>
          <a:xfrm>
            <a:off x="442800" y="2720880"/>
            <a:ext cx="524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8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Rectangle 24"/>
          <p:cNvSpPr/>
          <p:nvPr/>
        </p:nvSpPr>
        <p:spPr>
          <a:xfrm>
            <a:off x="2347560" y="2797200"/>
            <a:ext cx="524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35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Rectangle 25"/>
          <p:cNvSpPr/>
          <p:nvPr/>
        </p:nvSpPr>
        <p:spPr>
          <a:xfrm>
            <a:off x="4404960" y="2720880"/>
            <a:ext cx="524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27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Rectangle 26"/>
          <p:cNvSpPr/>
          <p:nvPr/>
        </p:nvSpPr>
        <p:spPr>
          <a:xfrm>
            <a:off x="8215200" y="2720880"/>
            <a:ext cx="524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22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Rectangle 27"/>
          <p:cNvSpPr/>
          <p:nvPr/>
        </p:nvSpPr>
        <p:spPr>
          <a:xfrm>
            <a:off x="517320" y="3171960"/>
            <a:ext cx="1822680" cy="28321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800  CHS  g  CF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0  g  CF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20 g N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350  g CF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0 g CF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26  g N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275  g CF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0  G CF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21  g  N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225  g  CF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Rectangle 28"/>
          <p:cNvSpPr/>
          <p:nvPr/>
        </p:nvSpPr>
        <p:spPr>
          <a:xfrm>
            <a:off x="1203480" y="2035080"/>
            <a:ext cx="7696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20 =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Rectangle 29"/>
          <p:cNvSpPr/>
          <p:nvPr/>
        </p:nvSpPr>
        <p:spPr>
          <a:xfrm>
            <a:off x="3108600" y="2035080"/>
            <a:ext cx="7696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26 =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Rectangle 30"/>
          <p:cNvSpPr/>
          <p:nvPr/>
        </p:nvSpPr>
        <p:spPr>
          <a:xfrm>
            <a:off x="5775480" y="2035080"/>
            <a:ext cx="7696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21 =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Rectangle 31"/>
          <p:cNvSpPr/>
          <p:nvPr/>
        </p:nvSpPr>
        <p:spPr>
          <a:xfrm>
            <a:off x="2566800" y="5388120"/>
            <a:ext cx="61189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c0128"/>
                </a:solidFill>
                <a:latin typeface="Times New Roman"/>
              </a:rPr>
              <a:t>f  IRR  </a:t>
            </a: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nos dará a taxa de juros ao dia, uma vez que informam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os fluxos dia a di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Rectangle 32"/>
          <p:cNvSpPr/>
          <p:nvPr/>
        </p:nvSpPr>
        <p:spPr>
          <a:xfrm>
            <a:off x="3484440" y="3857760"/>
            <a:ext cx="4765680" cy="9118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Informar o valor dos fluxos dia a dia. Quando nã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houver valor, digitar ZERO e informar com qu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freqüência ocorre (Nj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Line 33"/>
          <p:cNvSpPr/>
          <p:nvPr/>
        </p:nvSpPr>
        <p:spPr>
          <a:xfrm flipH="1" flipV="1">
            <a:off x="2965320" y="3117960"/>
            <a:ext cx="1841760" cy="77472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Line 34"/>
          <p:cNvSpPr/>
          <p:nvPr/>
        </p:nvSpPr>
        <p:spPr>
          <a:xfrm flipH="1" flipV="1">
            <a:off x="3650760" y="2812680"/>
            <a:ext cx="1079640" cy="107964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Line 35"/>
          <p:cNvSpPr/>
          <p:nvPr/>
        </p:nvSpPr>
        <p:spPr>
          <a:xfrm flipV="1">
            <a:off x="4724280" y="3117960"/>
            <a:ext cx="0" cy="77472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Line 36"/>
          <p:cNvSpPr/>
          <p:nvPr/>
        </p:nvSpPr>
        <p:spPr>
          <a:xfrm flipV="1">
            <a:off x="4730760" y="2889000"/>
            <a:ext cx="1206360" cy="100332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Line 37"/>
          <p:cNvSpPr/>
          <p:nvPr/>
        </p:nvSpPr>
        <p:spPr>
          <a:xfrm flipV="1">
            <a:off x="4807080" y="2889000"/>
            <a:ext cx="3340080" cy="100332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AutoShape 43">
            <a:hlinkClick r:id="" action="ppaction://hlinkshowjump?jump=nextslide"/>
          </p:cNvPr>
          <p:cNvSpPr/>
          <p:nvPr/>
        </p:nvSpPr>
        <p:spPr>
          <a:xfrm>
            <a:off x="8610480" y="640080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AutoShape 44">
            <a:hlinkClick r:id="" action="ppaction://hlinkshowjump?jump=previousslide"/>
          </p:cNvPr>
          <p:cNvSpPr/>
          <p:nvPr/>
        </p:nvSpPr>
        <p:spPr>
          <a:xfrm>
            <a:off x="228600" y="640080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10800"/>
                </a:moveTo>
                <a:lnTo>
                  <a:pt x="21406" y="3794"/>
                </a:lnTo>
                <a:lnTo>
                  <a:pt x="21406" y="17806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2" name="Object 45" descr=""/>
          <p:cNvPicPr/>
          <p:nvPr/>
        </p:nvPicPr>
        <p:blipFill>
          <a:blip r:embed="rId1"/>
          <a:stretch/>
        </p:blipFill>
        <p:spPr>
          <a:xfrm>
            <a:off x="1219320" y="0"/>
            <a:ext cx="450720" cy="66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8" descr="C:\empresas\mbc\marca3.gif"/>
          <p:cNvPicPr/>
          <p:nvPr/>
        </p:nvPicPr>
        <p:blipFill>
          <a:blip r:embed="rId1"/>
          <a:stretch/>
        </p:blipFill>
        <p:spPr>
          <a:xfrm>
            <a:off x="1752480" y="1219320"/>
            <a:ext cx="4953240" cy="4473360"/>
          </a:xfrm>
          <a:prstGeom prst="rect">
            <a:avLst/>
          </a:prstGeom>
          <a:ln w="0">
            <a:noFill/>
          </a:ln>
        </p:spPr>
      </p:pic>
      <p:sp>
        <p:nvSpPr>
          <p:cNvPr id="274" name="AutoShape 4">
            <a:hlinkClick r:id="" action="ppaction://hlinkshowjump?jump=firstslide"/>
          </p:cNvPr>
          <p:cNvSpPr/>
          <p:nvPr/>
        </p:nvSpPr>
        <p:spPr>
          <a:xfrm>
            <a:off x="5562720" y="5181480"/>
            <a:ext cx="533160" cy="381240"/>
          </a:xfrm>
          <a:custGeom>
            <a:avLst/>
            <a:gdLst>
              <a:gd name="textAreaLeft" fmla="*/ 24480 w 533160"/>
              <a:gd name="textAreaRight" fmla="*/ 508680 w 53316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0199" h="21600">
                <a:moveTo>
                  <a:pt x="0" y="0"/>
                </a:moveTo>
                <a:lnTo>
                  <a:pt x="30199" y="0"/>
                </a:lnTo>
                <a:lnTo>
                  <a:pt x="30199" y="21600"/>
                </a:lnTo>
                <a:lnTo>
                  <a:pt x="0" y="21600"/>
                </a:lnTo>
                <a:close/>
              </a:path>
              <a:path fill="lightenLess" w="30199" h="21600">
                <a:moveTo>
                  <a:pt x="0" y="0"/>
                </a:moveTo>
                <a:lnTo>
                  <a:pt x="30199" y="0"/>
                </a:lnTo>
                <a:lnTo>
                  <a:pt x="28799" y="1400"/>
                </a:lnTo>
                <a:lnTo>
                  <a:pt x="1400" y="1400"/>
                </a:lnTo>
                <a:close/>
              </a:path>
              <a:path fill="darken" w="30199" h="21600">
                <a:moveTo>
                  <a:pt x="30199" y="0"/>
                </a:moveTo>
                <a:lnTo>
                  <a:pt x="30199" y="21600"/>
                </a:lnTo>
                <a:lnTo>
                  <a:pt x="28799" y="20200"/>
                </a:lnTo>
                <a:lnTo>
                  <a:pt x="28799" y="1400"/>
                </a:lnTo>
                <a:close/>
              </a:path>
              <a:path fill="darkenLess" w="30199" h="21600">
                <a:moveTo>
                  <a:pt x="301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99" y="20200"/>
                </a:lnTo>
                <a:close/>
              </a:path>
              <a:path fill="lighten" w="301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99" h="21600">
                <a:moveTo>
                  <a:pt x="15100" y="3837"/>
                </a:moveTo>
                <a:lnTo>
                  <a:pt x="17676" y="6448"/>
                </a:lnTo>
                <a:lnTo>
                  <a:pt x="17676" y="4707"/>
                </a:lnTo>
                <a:lnTo>
                  <a:pt x="19451" y="4707"/>
                </a:lnTo>
                <a:lnTo>
                  <a:pt x="19451" y="8224"/>
                </a:lnTo>
                <a:lnTo>
                  <a:pt x="22063" y="10800"/>
                </a:lnTo>
                <a:lnTo>
                  <a:pt x="20409" y="10800"/>
                </a:lnTo>
                <a:lnTo>
                  <a:pt x="20409" y="17989"/>
                </a:lnTo>
                <a:lnTo>
                  <a:pt x="9790" y="17989"/>
                </a:lnTo>
                <a:lnTo>
                  <a:pt x="9790" y="10800"/>
                </a:lnTo>
                <a:lnTo>
                  <a:pt x="8137" y="10800"/>
                </a:lnTo>
                <a:close/>
              </a:path>
              <a:path fill="darkenLess" w="30199" h="21600">
                <a:moveTo>
                  <a:pt x="17676" y="6448"/>
                </a:moveTo>
                <a:lnTo>
                  <a:pt x="17676" y="4707"/>
                </a:lnTo>
                <a:lnTo>
                  <a:pt x="19451" y="4707"/>
                </a:lnTo>
                <a:lnTo>
                  <a:pt x="19451" y="8224"/>
                </a:lnTo>
                <a:close/>
              </a:path>
              <a:path fill="darkenLess" w="30199" h="21600">
                <a:moveTo>
                  <a:pt x="14177" y="14299"/>
                </a:moveTo>
                <a:lnTo>
                  <a:pt x="16022" y="14299"/>
                </a:lnTo>
                <a:lnTo>
                  <a:pt x="16022" y="17989"/>
                </a:lnTo>
                <a:lnTo>
                  <a:pt x="20409" y="17989"/>
                </a:lnTo>
                <a:lnTo>
                  <a:pt x="20409" y="10800"/>
                </a:lnTo>
                <a:lnTo>
                  <a:pt x="9790" y="10800"/>
                </a:lnTo>
                <a:lnTo>
                  <a:pt x="9790" y="17989"/>
                </a:lnTo>
                <a:lnTo>
                  <a:pt x="14177" y="17989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AutoShape 5">
            <a:hlinkClick r:id="" action="ppaction://hlinkshowjump?jump=endshow"/>
          </p:cNvPr>
          <p:cNvSpPr/>
          <p:nvPr/>
        </p:nvSpPr>
        <p:spPr>
          <a:xfrm>
            <a:off x="5562720" y="5867280"/>
            <a:ext cx="533160" cy="381240"/>
          </a:xfrm>
          <a:custGeom>
            <a:avLst/>
            <a:gdLst>
              <a:gd name="textAreaLeft" fmla="*/ 24480 w 533160"/>
              <a:gd name="textAreaRight" fmla="*/ 508680 w 53316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0199" h="21600">
                <a:moveTo>
                  <a:pt x="0" y="0"/>
                </a:moveTo>
                <a:lnTo>
                  <a:pt x="30199" y="0"/>
                </a:lnTo>
                <a:lnTo>
                  <a:pt x="30199" y="21600"/>
                </a:lnTo>
                <a:lnTo>
                  <a:pt x="0" y="21600"/>
                </a:lnTo>
                <a:close/>
              </a:path>
              <a:path fill="lightenLess" w="30199" h="21600">
                <a:moveTo>
                  <a:pt x="0" y="0"/>
                </a:moveTo>
                <a:lnTo>
                  <a:pt x="30199" y="0"/>
                </a:lnTo>
                <a:lnTo>
                  <a:pt x="28799" y="1400"/>
                </a:lnTo>
                <a:lnTo>
                  <a:pt x="1400" y="1400"/>
                </a:lnTo>
                <a:close/>
              </a:path>
              <a:path fill="darken" w="30199" h="21600">
                <a:moveTo>
                  <a:pt x="30199" y="0"/>
                </a:moveTo>
                <a:lnTo>
                  <a:pt x="30199" y="21600"/>
                </a:lnTo>
                <a:lnTo>
                  <a:pt x="28799" y="20200"/>
                </a:lnTo>
                <a:lnTo>
                  <a:pt x="28799" y="1400"/>
                </a:lnTo>
                <a:close/>
              </a:path>
              <a:path fill="darkenLess" w="30199" h="21600">
                <a:moveTo>
                  <a:pt x="301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99" y="20200"/>
                </a:lnTo>
                <a:close/>
              </a:path>
              <a:path fill="lighten" w="301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Text Box 6"/>
          <p:cNvSpPr/>
          <p:nvPr/>
        </p:nvSpPr>
        <p:spPr>
          <a:xfrm>
            <a:off x="6173280" y="5257800"/>
            <a:ext cx="152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Voltar ao iníci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Text Box 7"/>
          <p:cNvSpPr/>
          <p:nvPr/>
        </p:nvSpPr>
        <p:spPr>
          <a:xfrm>
            <a:off x="6176160" y="5943600"/>
            <a:ext cx="235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Encerrar apresentação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3583800" y="228600"/>
            <a:ext cx="52257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ALTERAR O NÚMERO DE CASAS APÓS A VÍRGUL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838080" y="3962520"/>
            <a:ext cx="8001000" cy="22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Para alterar o número de casas após a vírgula, basta pressionar a tecla  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e em seguida o número de casas desejad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Por exemplo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Se quiser formatar o visor com 3 casas, pressionar  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f  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Se quiser formatar o visor com número inteiro, pressionar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  f 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Oval 8"/>
          <p:cNvSpPr/>
          <p:nvPr/>
        </p:nvSpPr>
        <p:spPr>
          <a:xfrm>
            <a:off x="3581280" y="3048120"/>
            <a:ext cx="533520" cy="53316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Oval 9"/>
          <p:cNvSpPr/>
          <p:nvPr/>
        </p:nvSpPr>
        <p:spPr>
          <a:xfrm>
            <a:off x="6095880" y="2590920"/>
            <a:ext cx="533520" cy="53316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Line 10"/>
          <p:cNvSpPr/>
          <p:nvPr/>
        </p:nvSpPr>
        <p:spPr>
          <a:xfrm flipV="1">
            <a:off x="4114800" y="2895120"/>
            <a:ext cx="1981080" cy="381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3660840" y="228600"/>
            <a:ext cx="3061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MÉTODO DE CÁLCULO:  RP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533520" y="3962520"/>
            <a:ext cx="8305560" cy="22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RPN:  Reverse Polish Notation.  A Hewlett Packard utilizou nesta calculadora, o método desenvolvido pelo matemático polonês Jan Lukasiewicz. O método se adequou bem ao uso na calculadora, uma vez que dispensa a necessidade de parêntes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Exemplo:     Método algébrico:   ( 4 + 5 )  x  6  =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Método RPN:    4   ENTER   5  +   6   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Oval 6"/>
          <p:cNvSpPr/>
          <p:nvPr/>
        </p:nvSpPr>
        <p:spPr>
          <a:xfrm>
            <a:off x="5181480" y="2590920"/>
            <a:ext cx="685800" cy="106668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3615480" y="228600"/>
            <a:ext cx="5529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OS REGISTRADORES DA PILHA OPERACIONAL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533520" y="3962520"/>
            <a:ext cx="8305560" cy="20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A calculadora tem quatro linhas, que contém os valores a utilizar nos cálculos. Somente uma das linhas aparece no visor: é o registrador “X”.  Os demais registradores não aparecem, mas ficam disponíveis para os cálculo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Por exemplo:   DIGITE   1 ENTER  2 ENTER  3 ENTER  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A seguir, vá lendo todos os registradores, utilizando a função   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Text Box 12"/>
          <p:cNvSpPr/>
          <p:nvPr/>
        </p:nvSpPr>
        <p:spPr>
          <a:xfrm>
            <a:off x="1525320" y="1676520"/>
            <a:ext cx="365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Line 13"/>
          <p:cNvSpPr/>
          <p:nvPr/>
        </p:nvSpPr>
        <p:spPr>
          <a:xfrm flipV="1">
            <a:off x="1981080" y="1294920"/>
            <a:ext cx="3810240" cy="1600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Oval 14"/>
          <p:cNvSpPr/>
          <p:nvPr/>
        </p:nvSpPr>
        <p:spPr>
          <a:xfrm>
            <a:off x="1371600" y="2590920"/>
            <a:ext cx="609480" cy="5331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Line 15"/>
          <p:cNvSpPr/>
          <p:nvPr/>
        </p:nvSpPr>
        <p:spPr>
          <a:xfrm>
            <a:off x="7238880" y="5638680"/>
            <a:ext cx="0" cy="228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Oval 16"/>
          <p:cNvSpPr/>
          <p:nvPr/>
        </p:nvSpPr>
        <p:spPr>
          <a:xfrm>
            <a:off x="4038480" y="2666880"/>
            <a:ext cx="45720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2"/>
          <p:cNvSpPr/>
          <p:nvPr/>
        </p:nvSpPr>
        <p:spPr>
          <a:xfrm>
            <a:off x="3732120" y="228600"/>
            <a:ext cx="2203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LIMPAR O VISOR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609480" y="4572000"/>
            <a:ext cx="81676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Um simples toque na tecla  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CLx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 limpa o visor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Observe que esta operação somente apaga o VISOR, não afetando   os demais registradores da pilha operacional, nem os  registradores financeiros, de armazenamento ou os programa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Oval 16"/>
          <p:cNvSpPr/>
          <p:nvPr/>
        </p:nvSpPr>
        <p:spPr>
          <a:xfrm>
            <a:off x="4876920" y="2590920"/>
            <a:ext cx="457200" cy="45720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Text Box 17"/>
          <p:cNvSpPr/>
          <p:nvPr/>
        </p:nvSpPr>
        <p:spPr>
          <a:xfrm>
            <a:off x="748080" y="285588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Clear  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Line 18"/>
          <p:cNvSpPr/>
          <p:nvPr/>
        </p:nvSpPr>
        <p:spPr>
          <a:xfrm flipV="1">
            <a:off x="1752480" y="2819160"/>
            <a:ext cx="3124440" cy="228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"/>
          <p:cNvSpPr/>
          <p:nvPr/>
        </p:nvSpPr>
        <p:spPr>
          <a:xfrm>
            <a:off x="3656880" y="304920"/>
            <a:ext cx="5212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LIMPAR OS REGISTRADORES FINANCEIRO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609480" y="4114800"/>
            <a:ext cx="8077320" cy="20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Para limpar somente os registradores financeiros, enumerados acima, basta pressionar a tecla  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f 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seguida da segunda função da tecla  X&lt;&gt;Y que está na cor dourada:  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FI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Note que este procedimento não limpa o visor. Para confirmar (testar)   se os registradores financeiros foram apagados pressionar  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RCL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 seguido       do registrador financeiro desejado (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n, i, PV, PMT, FV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9" name="Object 8"/>
          <p:cNvGraphicFramePr/>
          <p:nvPr/>
        </p:nvGraphicFramePr>
        <p:xfrm>
          <a:off x="2971800" y="762120"/>
          <a:ext cx="4724280" cy="294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762120"/>
                    <a:ext cx="4724280" cy="294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Oval 15"/>
          <p:cNvSpPr/>
          <p:nvPr/>
        </p:nvSpPr>
        <p:spPr>
          <a:xfrm>
            <a:off x="3200400" y="1676520"/>
            <a:ext cx="2133720" cy="45720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Oval 16"/>
          <p:cNvSpPr/>
          <p:nvPr/>
        </p:nvSpPr>
        <p:spPr>
          <a:xfrm>
            <a:off x="4419720" y="2438280"/>
            <a:ext cx="457200" cy="45720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Oval 17"/>
          <p:cNvSpPr/>
          <p:nvPr/>
        </p:nvSpPr>
        <p:spPr>
          <a:xfrm>
            <a:off x="3581280" y="3124080"/>
            <a:ext cx="457200" cy="45720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Line 19"/>
          <p:cNvSpPr/>
          <p:nvPr/>
        </p:nvSpPr>
        <p:spPr>
          <a:xfrm flipV="1">
            <a:off x="3962520" y="2666880"/>
            <a:ext cx="457200" cy="457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"/>
          <p:cNvSpPr/>
          <p:nvPr/>
        </p:nvSpPr>
        <p:spPr>
          <a:xfrm>
            <a:off x="3731760" y="304920"/>
            <a:ext cx="4515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LIMPAR TODOS OS REGISTRADORES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685800" y="4114800"/>
            <a:ext cx="81169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Para limpar todos os registradores, com exceção dos programas introduzidos, pressionar a tecla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   f   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e em seguida  CLx  (aciona a função 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REG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que está    em dourado logo acima de CLx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Oval 15"/>
          <p:cNvSpPr/>
          <p:nvPr/>
        </p:nvSpPr>
        <p:spPr>
          <a:xfrm>
            <a:off x="4876920" y="2438280"/>
            <a:ext cx="457200" cy="45720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Oval 16"/>
          <p:cNvSpPr/>
          <p:nvPr/>
        </p:nvSpPr>
        <p:spPr>
          <a:xfrm>
            <a:off x="3581280" y="3124080"/>
            <a:ext cx="457200" cy="45720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Line 17"/>
          <p:cNvSpPr/>
          <p:nvPr/>
        </p:nvSpPr>
        <p:spPr>
          <a:xfrm flipV="1">
            <a:off x="4038480" y="2819520"/>
            <a:ext cx="838440" cy="380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Text Box 18"/>
          <p:cNvSpPr/>
          <p:nvPr/>
        </p:nvSpPr>
        <p:spPr>
          <a:xfrm>
            <a:off x="766080" y="5105520"/>
            <a:ext cx="70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Clear REG  =&gt;   limpa todos os registradores, menos os programa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0-26T02:24:10Z</dcterms:created>
  <dc:creator>office4.2</dc:creator>
  <dc:description/>
  <cp:keywords/>
  <dc:language>en-US</dc:language>
  <cp:lastModifiedBy>Windows XP</cp:lastModifiedBy>
  <dcterms:modified xsi:type="dcterms:W3CDTF">2011-09-14T16:11:12Z</dcterms:modified>
  <cp:revision>90</cp:revision>
  <dc:subject/>
  <dc:title>Slide sem título </dc:title>
</cp:coreProperties>
</file>